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F9D-4FBC-420C-9351-E67B0C07C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A325-E49F-4DF5-A3BE-05748B61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C61-2BDC-4F28-8680-7A2CF18FCBDC}" type="slidenum">
              <a:rPr b="0" lang="en-US" sz="1200" spc="-1" strike="noStrike">
                <a:solidFill>
                  <a:srgbClr val="4045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AA2-B0C8-4024-89D5-45E3C66C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A9C-E14B-4829-BE38-0ECDC94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EE8-E859-4AFF-A706-306022EE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F94-C55B-4D64-887D-C782BFD8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60E-46D1-495F-9ADA-F3D0D4C2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4D9-1919-4DEB-8F4A-985F620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CC37-CDC1-4207-AD2E-6ED1A6B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9C28-4797-495C-968A-7E4D08B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4484-FCC2-41D5-8241-74C4D88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76F2-EF39-4E5A-93AD-42296F7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BCD-FA88-4038-B81F-C416B91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434-48ED-4324-8A12-3669A027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A4A9-F666-4575-A630-AE54BF9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1DA6-9A93-40DD-9E46-D2EF42B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2CD-ABE5-4585-9C29-AFDA85F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EF1-3610-43B1-BBBB-3188BA6B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37BA-0A71-424F-B55E-24B22B7C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078-D269-4A68-BBE0-0F04E740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6E9-7437-4F94-9DCB-D0FB6D8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6E8-1D51-4A0C-8928-D7ACA6B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F1D-99A5-48E4-A524-59BBDF1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2FD-D8EC-4E1D-B2AC-D776B3A7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585-1C0F-4D0D-A576-48A6C8E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582-7418-4338-ADFC-B8D7DAA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236-8FED-4B43-8C2C-9F37C1BA11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711-86B1-4E02-92DE-08AF009A90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882"/>
                </a:solidFill>
                <a:latin typeface="Tahoma"/>
              </a:rPr>
              <a:t>Me llamo __________          Clase 7IM</a:t>
            </a:r>
            <a:br>
              <a:rPr sz="3600"/>
            </a:br>
            <a:r>
              <a:rPr b="0" lang="en-US" sz="3600" spc="-1" strike="noStrike">
                <a:solidFill>
                  <a:srgbClr val="ecd882"/>
                </a:solidFill>
                <a:latin typeface="Tahoma"/>
              </a:rPr>
              <a:t>La fecha es el 10 de noviembre del 2011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</a:rPr>
              <a:t>Propósito # 20:</a:t>
            </a: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¿Conoces una persona famo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6f89f7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In the following sentences, write the correct form of SER or EST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Yo _______ una persona famo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Tú _______ en Quee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Ella ______ una agente de adua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Nosotros _________ pocos, pero lo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¿Ustedes __________ en problema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What is do SER &amp; ESTAR mea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89840" y="30481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how do you say 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we know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New York when you are talking about being familiar with a city?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3886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Conocemos a Nueva Y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C:\Documents and Settings\Meli\Local Settings\Temporary Internet Files\Content.IE5\EAOZIRK7\MCj04326170000[1].png"/>
          <p:cNvPicPr/>
          <p:nvPr/>
        </p:nvPicPr>
        <p:blipFill>
          <a:blip r:embed="rId1"/>
          <a:srcRect l="0" t="0" r="16677" b="0"/>
          <a:stretch/>
        </p:blipFill>
        <p:spPr>
          <a:xfrm>
            <a:off x="7620120" y="5029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f89f7"/>
                </a:solidFill>
                <a:latin typeface="Tahoma"/>
              </a:rPr>
              <a:t>Práctica: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Yo ____________a Juan. Somos muy amigos.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 know Juan. We're good friend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usco el libro. ¿_________ usted dónde está?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'm looking for the book. Do you know where it i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engo que llamar a María. ¿__________ (tú) su número de teléfono?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 have to call Maria. Do you know her phone numbe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blo es niño. No ____________conducir.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blo is a child. He doesn't know how to dr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 hablar bien el español? Es necesario ___________ los verbos irregulares.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you want to speak Spanish well? You must know (by heart) the irregular verbs. (hint: use the infinitiv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9f7"/>
                </a:solidFill>
                <a:latin typeface="Tahoma"/>
              </a:rPr>
              <a:t>Práctic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¿Saber o conocer?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ll in the blanks with the correct form of “</a:t>
            </a:r>
            <a:r>
              <a:rPr b="0" lang="en-US" sz="2800" spc="-1" strike="noStrike">
                <a:solidFill>
                  <a:srgbClr val="cfdbfd"/>
                </a:solidFill>
                <a:latin typeface="Tahoma"/>
              </a:rPr>
              <a:t>sab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 or “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”  Include the “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ersonal” if needed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3160" y="22096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Yo ____________ pint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ena no ____________ Migu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isa y yo ____________ que es miérc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ú ______________ dónde está la cafete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Yo ____________ la ciudad de Buenos Ai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ederico y J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ahoma"/>
              </a:rPr>
              <a:t>é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___________ hablar españ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otros ___________ el Parque Central muy bi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rique ____________ la nueva profesora de histor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are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mplete the sentence with the correct form of SABER or CONOCER. It is possible to use the infinitive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. Marta, ¿qué _____________ tú del presidente de Los Estados Unidos?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Yo ________que es Barak Obama. Pero no lo _________ personalmente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. El guía ________ dónde hay lugares interesantes.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ahoma"/>
              </a:rPr>
              <a:t>É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 ___________ bien la geografía de Chile.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Y él también ____________ conducir bien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. Ese paciente tiene síntomas del Mal de Alzheimer.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ahoma"/>
              </a:rPr>
              <a:t>É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 ya no ____________a su esposa. A veces no ____________ dónde vive. Algunos días no __________ usar la tele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 Mis amigos van a mirar el último episodio de </a:t>
            </a: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Surviv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ean ________________la identidad del último sobreviviente.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 el mundo __________________ que va a ser muy rico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. Mis estudiantes _____________ hablar español bien.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los tienen ganas de _____________ España algún día.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. ¿Quién ______________cuánto cuesta viajar a Chile?</a:t>
            </a:r>
            <a:br>
              <a:rPr sz="2000"/>
            </a:b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Ud.__________________ a un agente de turismo. Pregúntesel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ar la tar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sé el número de teléfono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sabe jugar al fútbol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75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1752480"/>
            <a:ext cx="958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conozco al Sr. Ruiz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conoce el parque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de atraccione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25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53640" y="1523880"/>
            <a:ext cx="621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 know how to play car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co knows the Fernandez fami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a knows the addr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ina knows the city very wel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y friends know how to do 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uisa knows the inform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23760" y="251460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Paco conoce a los Fernandez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ers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52560"/>
            <a:ext cx="57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Yo sé jugar a las cartas. 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ctivit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47880" y="3352680"/>
            <a:ext cx="68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a sabe la direc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080" y="4114800"/>
            <a:ext cx="77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ina conoce la ciudad muy bie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lac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6480" y="4724280"/>
            <a:ext cx="65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is amigos saben hacerlo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activi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1360" y="541008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uisa sabe la informa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Spot the word that is NOT a form of saber or conoce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sabes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conozc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conocemo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sab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How do you say 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I know Spanish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?(include pronoun)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12408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0481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58c"/>
                </a:solidFill>
                <a:latin typeface="Tahoma"/>
              </a:rPr>
              <a:t>Yo sé espa</a:t>
            </a:r>
            <a:r>
              <a:rPr b="1" lang="en-US" sz="5400" spc="-1" strike="noStrike">
                <a:solidFill>
                  <a:srgbClr val="40458c"/>
                </a:solidFill>
                <a:latin typeface="Tahoma"/>
                <a:ea typeface="Tahoma"/>
              </a:rPr>
              <a:t>ňol</a:t>
            </a:r>
            <a:r>
              <a:rPr b="1" lang="en-US" sz="5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What is a good way to remember when to use 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ABER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sed for knowing places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sed for knowing peop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sed for knowing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How do you say 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I know her well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La sé bie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666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sed for things that can be learn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4876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La conozco bie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1-11-11T19:03:20Z</dcterms:modified>
  <cp:revision>26</cp:revision>
  <dc:subject/>
  <dc:title>PowerPoint Presentation</dc:title>
</cp:coreProperties>
</file>